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EC1-4D2E-4AE6-BF3E-2AC3AF34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E5D-97CC-4934-BC39-8961B6C0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291-88BB-4E74-9066-6EE51D22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683-061F-4A46-A8D9-E0AA7CE8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7BD-D53B-4CAF-BB6A-06ECDC30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4FC-0F29-4B19-84EA-3F5BEEB3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525-A23C-44EE-A52E-D9FDD1A1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C6D-5550-424B-BD6F-7E09CB34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CAF-34C4-4E21-A220-7A803620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127-0372-4A43-9BB2-B28D2A47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953-871E-4E15-BF7D-315E806B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1FB-D238-4E79-94AE-41EAB3F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FD6A-49B9-44D4-BB3A-4C0959C36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dsb.on.ca/libraries/cat.asp?schoolNo=3440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plagiaris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Credit Where Credit is D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PA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uth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egener &amp; Petty, 1994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5 auth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rnis, Cornell, Sun, Berry, &amp; Harlow, 1993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citat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+ auth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rnis et al., 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text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aser, LeDrew, Vavitsas, Whit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Mahon, 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aser et al., 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no author, etc…have a look at this excellent website for all of the specific det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wl.english.purdue.edu/ow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” is the online writing lab at Purdue University in In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library websi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lots of useful information on citing sources as well as electronic resources for re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dsb.on.ca/libraries/cat.asp?schoolNo=34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t or instance of using or closely imitat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oughts of another author without authorization and the representation of that author’s work as one’s own, as by not crediting the original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om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ctionary.reference.com/browse/plagiar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not plagiar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credit where credit is d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f you paraphrase or summarize, if an idea is not your own, it should be clearly indicated from what source it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A vs A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A (Modern Languages Association) format is used mostly in the Huma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 (American Psychological Association) format is used mostly within the Soci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list should appear at the end of your report and be titled “References” (centered at the top of the p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nes after the first line of each entry should be indented one-half inch from the left margin (hanging ind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tries should be listed in alphabet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List: A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thor, A. A. (Year of publication).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of work: Capital letter also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subtitl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Location: Publis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fee, R. C., &amp; Valencia, R. R. (199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A guide to preparing manuscrip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journal pub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Washingt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: American Psychological Asso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text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ser, D., LeDrew, B., Vavitsas, A.,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-McMahon, M. (2012)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oronto, ON: Nelson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List: Interne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thor, A. A., &amp; Author, B. B. (Dat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ublication). Title of document. Retrie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om http://Web addres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i, E., Wagner, J., Lawrick, E., Moore, K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son, M., Soderland, L., &amp; Brizee,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10, May 5). General format. Retrie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http://owl.english.purdue.edu/ow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/560/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referring to an idea from another work b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ly quoting the material, or making reference to an entire book, article or other work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ou only have to make reference to the author and year of publication and not the page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your in-text reference. All sources that are cited in the text must appear in the reference list at the end of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3:36:27Z</dcterms:created>
  <dc:creator>rubina khan</dc:creator>
  <dc:description/>
  <dc:language>en-US</dc:language>
  <cp:lastModifiedBy>rubina khan</cp:lastModifiedBy>
  <dcterms:modified xsi:type="dcterms:W3CDTF">2012-10-09T14:21:09Z</dcterms:modified>
  <cp:revision>39</cp:revision>
  <dc:subject/>
  <dc:title>Giving Credit Where Credit is Due…</dc:title>
</cp:coreProperties>
</file>